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9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A034-BC4B-4398-9E11-AC4860E6E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FFCB-AEF9-4C1E-8615-F485D6CE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B9EB-D470-4ED3-8E1B-7143D23D8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3E99-68B7-4F69-B056-05C0E4631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A94E-0FD8-4F39-AA6A-9435B916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FA06-C2AE-41CD-98F9-5CE6C34E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DA4D-78B8-4C30-879B-45A2E983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3363-BC2F-4915-B97B-C081B241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47BE-5E6A-4840-91B6-DADFBF9A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7094-FCF2-4044-8953-C9D5DEC9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49DA-A7DB-4BF0-A936-473298C9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6A58-2877-4101-9888-CD9A97AC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2C7B-7A31-4A80-B160-4ADC80E5D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gonometry Quiz 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Special 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n angle is given in radians, tell what the degree equivalent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n angle is given in degrees, tell what the radian equivalent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2209680" y="1219320"/>
          <a:ext cx="23162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219320"/>
                    <a:ext cx="23162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908000" y="2075040"/>
          <a:ext cx="292104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075040"/>
                    <a:ext cx="292104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209680" y="1219320"/>
          <a:ext cx="23162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219320"/>
                    <a:ext cx="23162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857240" y="2075040"/>
          <a:ext cx="302256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240" y="2075040"/>
                    <a:ext cx="302256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2209680" y="1219320"/>
          <a:ext cx="23162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219320"/>
                    <a:ext cx="23162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857240" y="2075040"/>
          <a:ext cx="302256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240" y="2075040"/>
                    <a:ext cx="302256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2209680" y="1219320"/>
          <a:ext cx="23162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219320"/>
                    <a:ext cx="23162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908000" y="1219320"/>
          <a:ext cx="29210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219320"/>
                    <a:ext cx="29210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606680" y="2075040"/>
          <a:ext cx="352584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6680" y="2075040"/>
                    <a:ext cx="352584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959120" y="1219320"/>
          <a:ext cx="281916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9120" y="1219320"/>
                    <a:ext cx="281916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2209680" y="1219320"/>
          <a:ext cx="23162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219320"/>
                    <a:ext cx="23162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1550880" y="2057400"/>
          <a:ext cx="362592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0880" y="2057400"/>
                    <a:ext cx="362592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959120" y="1219320"/>
          <a:ext cx="281916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9120" y="1219320"/>
                    <a:ext cx="281916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1606680" y="2075040"/>
          <a:ext cx="352584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6680" y="2075040"/>
                    <a:ext cx="352584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1959120" y="1219320"/>
          <a:ext cx="281916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9120" y="1219320"/>
                    <a:ext cx="281916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655640" y="2075040"/>
          <a:ext cx="342612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5640" y="2075040"/>
                    <a:ext cx="342612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1908000" y="1219320"/>
          <a:ext cx="29210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219320"/>
                    <a:ext cx="29210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655640" y="2075040"/>
          <a:ext cx="342612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5640" y="2075040"/>
                    <a:ext cx="342612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706400" y="1219320"/>
          <a:ext cx="33242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6400" y="1219320"/>
                    <a:ext cx="33242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1655640" y="2075040"/>
          <a:ext cx="342612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5640" y="2075040"/>
                    <a:ext cx="342612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908000" y="1219320"/>
          <a:ext cx="29210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219320"/>
                    <a:ext cx="29210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908000" y="2075040"/>
          <a:ext cx="292104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075040"/>
                    <a:ext cx="292104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555920" y="2075040"/>
          <a:ext cx="362736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5920" y="2075040"/>
                    <a:ext cx="362736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2008080" y="2075040"/>
          <a:ext cx="271944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8080" y="2075040"/>
                    <a:ext cx="271944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1606680" y="2075040"/>
          <a:ext cx="352584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6680" y="2075040"/>
                    <a:ext cx="352584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908000" y="1219320"/>
          <a:ext cx="29210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219320"/>
                    <a:ext cx="29210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1606680" y="2075040"/>
          <a:ext cx="352584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6680" y="2075040"/>
                    <a:ext cx="352584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1959120" y="1219320"/>
          <a:ext cx="281916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9120" y="1219320"/>
                    <a:ext cx="281916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655640" y="2075040"/>
          <a:ext cx="342612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5640" y="2075040"/>
                    <a:ext cx="342612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1959120" y="1219320"/>
          <a:ext cx="281916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9120" y="1219320"/>
                    <a:ext cx="281916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555920" y="2075040"/>
          <a:ext cx="362736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5920" y="2075040"/>
                    <a:ext cx="362736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2309760" y="2225520"/>
          <a:ext cx="2114640" cy="110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9760" y="2225520"/>
                    <a:ext cx="211464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209680" y="1219320"/>
          <a:ext cx="23162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219320"/>
                    <a:ext cx="23162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555920" y="2075040"/>
          <a:ext cx="362736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5920" y="2075040"/>
                    <a:ext cx="362736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2409840" y="2075040"/>
          <a:ext cx="191448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9840" y="2075040"/>
                    <a:ext cx="191448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2157480" y="2075040"/>
          <a:ext cx="241920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7480" y="2075040"/>
                    <a:ext cx="241920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857240" y="2075040"/>
          <a:ext cx="302256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240" y="2075040"/>
                    <a:ext cx="302256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209680" y="1219320"/>
          <a:ext cx="23162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219320"/>
                    <a:ext cx="23162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857240" y="2075040"/>
          <a:ext cx="302256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240" y="2075040"/>
                    <a:ext cx="302256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209680" y="1219320"/>
          <a:ext cx="23162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219320"/>
                    <a:ext cx="23162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906560" y="2075040"/>
          <a:ext cx="292248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6560" y="2075040"/>
                    <a:ext cx="292248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9:23:02Z</dcterms:created>
  <dc:creator> John</dc:creator>
  <dc:description/>
  <dc:language>en-US</dc:language>
  <cp:lastModifiedBy> John</cp:lastModifiedBy>
  <dcterms:modified xsi:type="dcterms:W3CDTF">2009-02-04T21:06:33Z</dcterms:modified>
  <cp:revision>5</cp:revision>
  <dc:subject/>
  <dc:title>Slide 1</dc:title>
</cp:coreProperties>
</file>